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166-995C-40DB-A8F7-C8445FAA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C15-78B6-4B98-8DCC-5A14B033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6A7-7450-4A5B-85CD-5833E2F8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C9F5-2EFB-4625-BD39-44153EDA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6BF-DC04-4754-8006-53C86C21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AAB-5A9B-4603-AC99-B4592604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86DE-5A5A-4012-948E-D6BC0598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5228-5988-4017-8AC8-DE494CE5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8151-0499-4BB7-B1D0-46C609E0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3E4E-6068-4846-9F0E-8A28BEE7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D867-099B-4A40-A8D4-41FED7E4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E2AC-BDCA-4FB9-85A0-0771C0AB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A20F-DB59-484B-A4C2-3F74371D3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7d664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3290040" y="26028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Old English Text MT"/>
              </a:rPr>
              <a:t>Hier kommt der Titel 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5640" y="620640"/>
            <a:ext cx="7704000" cy="647640"/>
          </a:xfrm>
          <a:custGeom>
            <a:avLst/>
            <a:gdLst>
              <a:gd name="textAreaLeft" fmla="*/ 963000 w 7704000"/>
              <a:gd name="textAreaRight" fmla="*/ 6741000 w 7704000"/>
              <a:gd name="textAreaTop" fmla="*/ 0 h 647640"/>
              <a:gd name="textAreaBottom" fmla="*/ 508320 h 647640"/>
            </a:gdLst>
            <a:ahLst/>
            <a:rect l="textAreaLeft" t="textAreaTop" r="textAreaRight" b="textAreaBottom"/>
            <a:pathLst>
              <a:path w="21600" h="21600">
                <a:moveTo>
                  <a:pt x="5400" y="16951"/>
                </a:moveTo>
                <a:lnTo>
                  <a:pt x="5400" y="20438"/>
                </a:lnTo>
                <a:cubicBezTo>
                  <a:pt x="5400" y="21019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3125"/>
                </a:lnTo>
                <a:lnTo>
                  <a:pt x="0" y="4649"/>
                </a:lnTo>
                <a:lnTo>
                  <a:pt x="2700" y="4649"/>
                </a:lnTo>
                <a:lnTo>
                  <a:pt x="2700" y="1162"/>
                </a:lnTo>
                <a:cubicBezTo>
                  <a:pt x="2700" y="581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581"/>
                  <a:pt x="18900" y="1162"/>
                </a:cubicBezTo>
                <a:lnTo>
                  <a:pt x="18900" y="4649"/>
                </a:lnTo>
                <a:lnTo>
                  <a:pt x="21600" y="4649"/>
                </a:lnTo>
                <a:lnTo>
                  <a:pt x="18850" y="13125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019"/>
                  <a:pt x="16200" y="20438"/>
                </a:cubicBezTo>
                <a:lnTo>
                  <a:pt x="16200" y="16951"/>
                </a:lnTo>
                <a:close/>
              </a:path>
              <a:path fill="darkenLess" w="21600" h="21600">
                <a:moveTo>
                  <a:pt x="5400" y="16951"/>
                </a:moveTo>
                <a:lnTo>
                  <a:pt x="5400" y="20438"/>
                </a:lnTo>
                <a:cubicBezTo>
                  <a:pt x="5400" y="19857"/>
                  <a:pt x="4980" y="19276"/>
                  <a:pt x="4560" y="19276"/>
                </a:cubicBezTo>
                <a:lnTo>
                  <a:pt x="3540" y="19276"/>
                </a:lnTo>
                <a:cubicBezTo>
                  <a:pt x="3120" y="19276"/>
                  <a:pt x="2700" y="18694"/>
                  <a:pt x="2700" y="18113"/>
                </a:cubicBezTo>
                <a:cubicBezTo>
                  <a:pt x="2700" y="17532"/>
                  <a:pt x="3120" y="16951"/>
                  <a:pt x="3540" y="16951"/>
                </a:cubicBezTo>
                <a:close/>
              </a:path>
              <a:path fill="darkenLess" w="21600" h="21600">
                <a:moveTo>
                  <a:pt x="16200" y="16951"/>
                </a:moveTo>
                <a:lnTo>
                  <a:pt x="16200" y="20438"/>
                </a:lnTo>
                <a:cubicBezTo>
                  <a:pt x="16200" y="19857"/>
                  <a:pt x="16620" y="19276"/>
                  <a:pt x="17040" y="19276"/>
                </a:cubicBezTo>
                <a:lnTo>
                  <a:pt x="18060" y="19276"/>
                </a:lnTo>
                <a:cubicBezTo>
                  <a:pt x="18480" y="19276"/>
                  <a:pt x="18900" y="18694"/>
                  <a:pt x="18900" y="18113"/>
                </a:cubicBezTo>
                <a:cubicBezTo>
                  <a:pt x="18900" y="17532"/>
                  <a:pt x="18480" y="16951"/>
                  <a:pt x="18060" y="16951"/>
                </a:cubicBezTo>
                <a:close/>
              </a:path>
              <a:path fill="darkenLess" w="21600" h="21600">
                <a:moveTo>
                  <a:pt x="2700" y="18113"/>
                </a:moveTo>
                <a:lnTo>
                  <a:pt x="2700" y="4649"/>
                </a:lnTo>
              </a:path>
              <a:path fill="darkenLess" w="21600" h="21600">
                <a:moveTo>
                  <a:pt x="18900" y="18113"/>
                </a:moveTo>
                <a:lnTo>
                  <a:pt x="18900" y="4649"/>
                </a:lnTo>
              </a:path>
            </a:pathLst>
          </a:custGeom>
          <a:solidFill>
            <a:srgbClr val="7d664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54936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ld English Text MT"/>
              </a:rPr>
              <a:t>Hier kommt der Titel 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Old English Text MT"/>
              </a:rPr>
              <a:t>Hier kommt der Titel h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907920"/>
            <a:ext cx="763272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40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Hier kommt der Titel h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6:56:00Z</dcterms:created>
  <dc:creator>Udo Bergmann</dc:creator>
  <dc:description/>
  <dc:language>en-US</dc:language>
  <cp:lastModifiedBy>Udo Bergmann</cp:lastModifiedBy>
  <dcterms:modified xsi:type="dcterms:W3CDTF">2006-10-16T06:56:37Z</dcterms:modified>
  <cp:revision>1</cp:revision>
  <dc:subject/>
  <dc:title>Folie 1</dc:title>
</cp:coreProperties>
</file>